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E61E-EE34-4B3A-AEA8-F2BD7579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2E2D-58FC-47D8-8BAC-5EEABEDA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C37-393D-412F-9260-3398CA7E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8EA-93D0-4013-8ECB-E31A0A01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514-5DDE-4FC0-A45C-D70B90B7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6FD9-8593-48D7-BC9E-A9058C9B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07F-6725-4FAD-9EA3-9BA0C689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94A-5BE7-451E-B72B-3AB03D4A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6C7B-D41C-444C-AFEC-BFFB3B10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89BA-9779-44AA-8C5E-FAED849C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AD52-7D34-43EA-9061-651E74D2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A230-7354-4F6F-B351-92594580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BBF8-922A-43AB-A05F-F0E85DFC067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م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حليل التقارير المالية في ظل التضخ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D33-8069-47AB-B8FD-FAF10FE21431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67080" y="1477800"/>
            <a:ext cx="7660800" cy="1031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و التضخم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70320" y="3191040"/>
            <a:ext cx="7650720" cy="2192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زيادة كمية النقود المتوفرة على كمية السلع والخدمات المعروض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زيادة العامة في ا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نخفاض القوة الشرائية للنق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24D-3EBE-40F9-B239-B23895FD3087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14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ق تعديل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3002040"/>
            <a:ext cx="411480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67820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AB0D-A841-4E5F-94E3-84AAFDF63937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346040"/>
            <a:ext cx="7772760" cy="9082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917800"/>
            <a:ext cx="8015400" cy="3319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ديل التكلفة التاريخية للاصول والالتزا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ى أساس وحدة نقدية ذات قوة شرائية متساوية مرتبطة بالتغ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المستوى العام للاسع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بناءً عليه يتم تصنيف محتويات قائمة المركز المالي إلى نوع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ن الحسابات: الحسابات النقدية والحسابات غير 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244-16E8-4AE1-8948-A2055CB93157}" type="slidenum">
              <a:t>4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01160" y="1714680"/>
            <a:ext cx="360360" cy="374472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825120"/>
            <a:ext cx="8020080" cy="947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وحدة النقد المتجان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2205000"/>
            <a:ext cx="6933960" cy="168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النقدية مثل المدينون واوراق القبض والمصروفات المقدمة والدائنون واوراق الدفع والمصروفات المستحق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PT Bold Heading"/>
              </a:rPr>
              <a:t>لا تعدل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4365720"/>
            <a:ext cx="7010280" cy="18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d6ff99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حسابات غير النقدية مثل المخزون والمباني وحقوق الملكية تعدل على النحو التالي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كلفة التاريخية (الرقم القياسي للاسعار الآن / الرقم القياسي للاسعار وقت الشراء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7596360" y="28522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7740720" y="5113080"/>
            <a:ext cx="792000" cy="360360"/>
          </a:xfrm>
          <a:custGeom>
            <a:avLst/>
            <a:gdLst>
              <a:gd name="textAreaLeft" fmla="*/ 0 w 792000"/>
              <a:gd name="textAreaRight" fmla="*/ 792360 w 792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6416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1443-6802-490C-9A3F-03E5F461EC49}" type="slidenum">
              <a:t>5</a:t>
            </a:fld>
          </a:p>
        </p:txBody>
      </p:sp>
    </p:spTree>
  </p:cSld>
  <p:transition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1203120"/>
            <a:ext cx="7772760" cy="907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طريقة التكلفة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4960" y="2917800"/>
            <a:ext cx="7512120" cy="331956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50000">
                <a:srgbClr val="d6ff99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عدل التكلفة التاريخية على أساس تكلفة الاحلال الجارية في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لأصول المماثلة في العمر والكفاءة والطاقة الإنتا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من: تحليل التقارير المالية في ظل التضخ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C2BF-7994-4428-99E2-5407758D0D72}" type="slidenum">
              <a:t>6</a:t>
            </a:fld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13:06Z</dcterms:modified>
  <cp:revision>18</cp:revision>
  <dc:subject/>
  <dc:title>التحليل المالي والائتماني</dc:title>
</cp:coreProperties>
</file>